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69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1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144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28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13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0033-FC5F-4C50-B24F-117A5685C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C780-A390-408E-90F7-319F45CE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D998-B45B-409E-9D81-1504AA03E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AEDD-E1C9-4E74-9C79-BA7356C26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D930-17B7-4ACD-AEF5-D0653085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96EB-A90E-439B-8BF9-3C6278EF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9497-663D-48B0-B723-95EBFD6A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B182-2012-4B71-86C5-58E7D97C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4C80-8BDA-4D14-899E-9B30DA31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ED5C-599C-4F94-8F2D-2BE88479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801D-014D-461A-987F-F094A86D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1A47-5F2B-4F5C-9569-F3EE96D8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8E9E-1A9E-4B0C-A89F-8AB139553D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79280" y="339840"/>
            <a:ext cx="885060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71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389" name="TextBox 1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393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397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01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05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09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13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17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21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25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10"/>
          <p:cNvSpPr/>
          <p:nvPr/>
        </p:nvSpPr>
        <p:spPr>
          <a:xfrm>
            <a:off x="155520" y="-1080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30" name="Прямоугольник 9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0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35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42" name="Прямоугольник 10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11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47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52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4"/>
          <p:cNvSpPr/>
          <p:nvPr/>
        </p:nvSpPr>
        <p:spPr>
          <a:xfrm>
            <a:off x="142920" y="106200"/>
            <a:ext cx="2017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57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62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67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72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77" name="Прямоугольник 1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485" name="Стрелка вниз 1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489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493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497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01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05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09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13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17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21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556000" y="136440"/>
            <a:ext cx="532908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62" name="Прямоугольник 1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66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70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74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78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82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86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90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94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5"/>
          <p:cNvSpPr/>
          <p:nvPr/>
        </p:nvSpPr>
        <p:spPr>
          <a:xfrm>
            <a:off x="1253160" y="320760"/>
            <a:ext cx="675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МЕДИА - АЛФАВИ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24160" y="1531800"/>
            <a:ext cx="6419520" cy="32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155520" y="-1080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142920" y="106200"/>
            <a:ext cx="2000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36" name="Прямоугольник 6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7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41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4"/>
          <p:cNvSpPr/>
          <p:nvPr/>
        </p:nvSpPr>
        <p:spPr>
          <a:xfrm>
            <a:off x="15408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46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51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66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2T09:07:49Z</dcterms:created>
  <dc:creator>zerkalo</dc:creator>
  <dc:description/>
  <dc:language>en-US</dc:language>
  <cp:lastModifiedBy>Савина Дарья Александровна</cp:lastModifiedBy>
  <dcterms:modified xsi:type="dcterms:W3CDTF">2023-01-24T15:29:37Z</dcterms:modified>
  <cp:revision>126</cp:revision>
  <dc:subject/>
  <dc:title>Слайд 1</dc:title>
</cp:coreProperties>
</file>